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312-BA52-40E7-9512-4D128A73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2A3-21F9-4D66-8ADC-10F4146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CFE-D1D4-46B3-A503-8989F5F3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9CE-658F-46E1-ADBF-3C38DA78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E902-7EB4-44A5-B303-B10C355A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BD4-03F3-4E4D-9DEC-51124366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093-7096-4A05-8099-79E9148C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AA2-092E-477D-9728-D37223AF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3E61-98C2-41A6-81A4-5043923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FEC-0A5C-4FB4-82A2-DBF5A87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2D8-9FAA-43FF-A2EC-6D1902B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168-55C2-4371-B5CB-937C8AA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9646-11E4-46CD-B0EA-A391C5A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1D0B-8E75-4F5C-968B-4E392A15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C5BB-AEDE-46B9-AF93-37DCCC47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96C-16D8-4F80-8B52-D36B0D52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12A-344F-49C5-9FC2-F194B7B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D807F-682F-424D-A6A0-AB4760EB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3636C-ED2B-432F-B2D9-FAD1031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98E47-B143-414D-9C14-B738F6E6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5E335-A879-42D7-8D0E-E1AD35C5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ADEBB-DD59-4B03-A191-DF12B8F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141-DCE5-4826-81FC-F08D3A7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5561B-632A-42A5-9FE0-027839C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77342-B7C4-434A-A385-E42ED3A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7A4B9-BE66-407E-9BC1-6AE6A55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AFD19-945C-49E8-835E-6E32350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A1824-1A78-4C1E-AF82-010D600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70CED-5CC2-4E1C-8F59-BE39128E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F4C8E-6ECB-41E1-AD46-07ED46E7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5904-CE01-4F35-B85D-9696C8B9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2245-7146-4E6F-BB5B-DF0EC39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D709-E499-4C27-8AF3-09797550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FB8-3A4C-4753-AAFB-A2E50E29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E7AF-E2A3-4227-977D-3665FE69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31AD-A468-42DC-BB7F-8972AE8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982B-8F3B-4FE1-AA1E-97C5885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2236-ADCF-490C-BDD6-AF442CE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0B8A-C7D2-4894-99FF-7E64098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88FE-7B10-4A63-81EC-EB683AE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C7C5-3C49-4422-8F1A-2A7E6A3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03D6-E9E0-4219-843A-26601526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4388-38D8-4602-8B5A-1BE1926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EB940-6CB3-436E-AEF1-A09BF84E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CB9-1107-4FB5-B903-C34F9AB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EDA0B-2C1B-477F-84FC-4B277C67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3CC11-43B1-4976-9193-913FD336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AEE3A-801A-4105-86FC-94CD0AA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463AB-5F68-4006-AF51-76066CF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A988E-6780-4F96-B806-8990169C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B256E-45AD-425C-B640-55AB702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25C1A-4F37-436A-91BE-DF83C99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0BD6C-521D-42F3-9C78-44F800D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5CF11-60EE-4407-B7F2-1F8125B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F4703-1D09-461F-A4E3-6587EEAB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569-CDED-421C-9B0E-9F75AAE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E2DBC-A746-4BDC-82B6-6919E994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CE74E-4E40-4138-9D0F-2104A2B6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528AE-43AE-42DF-9D24-15CEA77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CC48C-25BF-4CCF-8409-776480B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62A2A-4E0F-47BC-A38D-EB6F0F2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4E9DB-5D24-451C-92A9-77BFCF0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C7368-737C-4921-A612-F1C1037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F05D3-16C3-4CF9-B54F-BFCA8621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6279B-93F4-44B8-A85E-A3C9C11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3DC19-3303-47E5-9B26-2DA9486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2EE-091A-48A6-BBF5-7699180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91788-23F6-4C25-83D8-4D848704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365D7-C91B-42E1-97B3-E092E091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A5B2D-FF0E-4492-BBAA-D7E5D354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25853-4634-4F2B-ACB2-E0CD228B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06A84-678F-48C3-AA5F-EDBCA29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7C9D6-7916-4498-9DCD-B492216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F3988-9075-499C-A43F-458DD68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9117A-1E6B-40D4-BE76-E58C701B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07C9D-4D61-425B-9329-1529555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E77FA-27D0-4147-96E9-41378A8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59B-481A-440D-AA6A-B03CC22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16A76-50DD-4804-B63E-4563A66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C2980-058B-40B1-B431-642046B8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2EAEA-24F4-47F8-B474-6A19416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223F7-5F88-4C87-87F0-A4210282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31C72-DD07-459E-9E2C-36D777B5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BD0-883F-42CD-9472-9CA32ADB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5F7-C80B-4107-B794-DE2BCA06CE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02F-5963-499D-9B54-F068F03DEE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D5FB-FB44-464A-9A3E-05DCC9C21F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373-1CC5-4E86-AC8C-647D887ED3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BCD0-C667-4BFA-A807-BC1D65B8CB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E31-A2DA-47A4-820A-0379161C03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C5A-A7E3-4DD1-B650-F28316E847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785680"/>
            <a:ext cx="62863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668c4"/>
                </a:solidFill>
                <a:latin typeface="Century Schoolbook"/>
              </a:rPr>
              <a:t>ГУ  СШ № 6 Г. ЛИСАКОВСКА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i="1" lang="ru-RU" sz="2700" spc="-1" strike="noStrike">
                <a:solidFill>
                  <a:srgbClr val="eb6e5a"/>
                </a:solidFill>
                <a:latin typeface="Century Schoolbook"/>
              </a:rPr>
              <a:t>ПОРТФОЛИО</a:t>
            </a:r>
            <a:br>
              <a:rPr sz="2700"/>
            </a:br>
            <a:r>
              <a:rPr b="1" i="1" lang="ru-RU" sz="2700" spc="-1" strike="noStrike">
                <a:solidFill>
                  <a:srgbClr val="acc1e8"/>
                </a:solidFill>
                <a:latin typeface="Century Schoolbook"/>
              </a:rPr>
              <a:t> </a:t>
            </a:r>
            <a:br>
              <a:rPr sz="2700"/>
            </a:br>
            <a:r>
              <a:rPr b="1" lang="ru-RU" sz="2700" spc="-1" strike="noStrike">
                <a:solidFill>
                  <a:srgbClr val="3668c4"/>
                </a:solidFill>
                <a:latin typeface="Century Schoolbook"/>
              </a:rPr>
              <a:t>БУХАНОВА АЛИЯ ГАЙДАРОВНА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eab"/>
                </a:solidFill>
                <a:latin typeface="Century Schoolbook"/>
              </a:rPr>
              <a:t>            </a:t>
            </a:r>
            <a:r>
              <a:rPr b="1" lang="ru-RU" sz="2400" spc="-1" strike="noStrike">
                <a:solidFill>
                  <a:srgbClr val="3668c4"/>
                </a:solidFill>
                <a:latin typeface="Century Schoolbook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2362320"/>
          <a:ext cx="3657600" cy="16509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9080" y="2357280"/>
          <a:ext cx="4214880" cy="1928880"/>
        </p:xfrm>
        <a:graphic>
          <a:graphicData uri="http://schemas.openxmlformats.org/drawingml/2006/table">
            <a:tbl>
              <a:tblPr/>
              <a:tblGrid>
                <a:gridCol w="1214640"/>
                <a:gridCol w="1155600"/>
                <a:gridCol w="790560"/>
                <a:gridCol w="105408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экономики и финансовой грамот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ульта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 txBox="1"/>
          <p:nvPr/>
        </p:nvSpPr>
        <p:spPr>
          <a:xfrm>
            <a:off x="549360" y="406440"/>
            <a:ext cx="3558960" cy="917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Динамика достижений </a:t>
            </a:r>
            <a:r>
              <a:rPr b="1" i="1" lang="ru-RU" sz="1200" spc="-1" strike="noStrike">
                <a:solidFill>
                  <a:srgbClr val="ffffff"/>
                </a:solidFill>
                <a:latin typeface="Century Schoolbook"/>
              </a:rPr>
              <a:t>учащихся за 2 последних год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406400" y="405720"/>
            <a:ext cx="3560400" cy="9028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entury Schoolbook"/>
              </a:rPr>
              <a:t>Разработанные методические материал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429080" y="4572000"/>
          <a:ext cx="4214880" cy="2103480"/>
        </p:xfrm>
        <a:graphic>
          <a:graphicData uri="http://schemas.openxmlformats.org/drawingml/2006/table">
            <a:tbl>
              <a:tblPr/>
              <a:tblGrid>
                <a:gridCol w="1214640"/>
                <a:gridCol w="1155600"/>
                <a:gridCol w="790560"/>
                <a:gridCol w="105408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70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ы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ы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14200" y="2362320"/>
          <a:ext cx="3900600" cy="1493640"/>
        </p:xfrm>
        <a:graphic>
          <a:graphicData uri="http://schemas.openxmlformats.org/drawingml/2006/table">
            <a:tbl>
              <a:tblPr/>
              <a:tblGrid>
                <a:gridCol w="974880"/>
                <a:gridCol w="974520"/>
                <a:gridCol w="976320"/>
                <a:gridCol w="9748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де опублико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ссарий по эконом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ульта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4371840" y="2362320"/>
          <a:ext cx="3657600" cy="14954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77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2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озав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 txBox="1"/>
          <p:nvPr/>
        </p:nvSpPr>
        <p:spPr>
          <a:xfrm>
            <a:off x="532080" y="81792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Печатные рабо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389840" y="81792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Проектные исследовательские рабо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4200" y="2725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920" y="2357280"/>
          <a:ext cx="3929040" cy="2237040"/>
        </p:xfrm>
        <a:graphic>
          <a:graphicData uri="http://schemas.openxmlformats.org/drawingml/2006/table">
            <a:tbl>
              <a:tblPr/>
              <a:tblGrid>
                <a:gridCol w="982440"/>
                <a:gridCol w="981360"/>
                <a:gridCol w="982440"/>
                <a:gridCol w="9828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ский медвежон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 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643280" y="1500120"/>
          <a:ext cx="4071960" cy="5265720"/>
        </p:xfrm>
        <a:graphic>
          <a:graphicData uri="http://schemas.openxmlformats.org/drawingml/2006/table">
            <a:tbl>
              <a:tblPr/>
              <a:tblGrid>
                <a:gridCol w="814680"/>
                <a:gridCol w="814320"/>
                <a:gridCol w="814320"/>
                <a:gridCol w="814320"/>
                <a:gridCol w="814320"/>
              </a:tblGrid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нота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День именинник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учен. коллекти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родской конкурс«Шоу сорванцов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. творческ. способн. уч-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ыцарский турнир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. воспи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Золотая осень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.воспи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щание с начальной школ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звон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вящение в учени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рождественской звезд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родит. и ученич. колле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Весн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. воспи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84" name=""/>
          <p:cNvSpPr txBox="1"/>
          <p:nvPr/>
        </p:nvSpPr>
        <p:spPr>
          <a:xfrm>
            <a:off x="317880" y="746280"/>
            <a:ext cx="387936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Участие в конкурс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95960" y="252000"/>
            <a:ext cx="3581280" cy="7095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 Schoolbook"/>
              </a:rPr>
              <a:t>Учебно-воспитательная рабо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9680" y="5143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ОРЕТИЧЕСКИЕ ОСНОВЫ РАБОТЫ УЧИТЕЛЯ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ЧЕЛОВЕЧНОСТЬ;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НАУЧНОСТЬ;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СИСТЕМАТИЧНОСТЬ;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              ТЕРПЕНИЕ;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                   САМОУСОВЕРШЕНСТВОВАНИЕ;                                         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                        СТРЕМЛЕНИЕ;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УВАЖЕНИЕ ЛИЧНОСТИ;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668c4"/>
                </a:solidFill>
                <a:latin typeface="Century Schoolbook"/>
              </a:rPr>
              <a:t>«  ОБЩИЕ СВЕДЕНИЯ ОБ УЧИТЕЛЕ</a:t>
            </a:r>
            <a:r>
              <a:rPr b="1" i="1" lang="en-US" sz="3000" spc="-1" strike="noStrike">
                <a:solidFill>
                  <a:srgbClr val="3668c4"/>
                </a:solidFill>
                <a:latin typeface="Century Schoolbook"/>
              </a:rPr>
              <a:t>  </a:t>
            </a:r>
            <a:r>
              <a:rPr b="1" i="1" lang="ru-RU" sz="3000" spc="-1" strike="noStrike">
                <a:solidFill>
                  <a:srgbClr val="3668c4"/>
                </a:solidFill>
                <a:latin typeface="Century Schoolbook"/>
              </a:rPr>
              <a:t>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IMG_8301"/>
          <p:cNvPicPr/>
          <p:nvPr/>
        </p:nvPicPr>
        <p:blipFill>
          <a:blip r:embed="rId1"/>
          <a:stretch/>
        </p:blipFill>
        <p:spPr>
          <a:xfrm>
            <a:off x="1714680" y="2286000"/>
            <a:ext cx="48006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4240" y="4857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68c4"/>
                </a:solidFill>
                <a:latin typeface="Century Schoolbook"/>
              </a:rPr>
              <a:t>АНКЕТНЫЕ ДАННЫЕ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ФАМИЛИЯ  БУХАНОВА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ИМЯ          АЛИЯ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ОТЧЕСТВО  ГАЙДАРОВНА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 ДАТА РОЖДЕНИЯ       25.11. 70.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МЕСТО РОЖДЕНИЯ     РОССИЯ ЧЕЛЯБИНСКАЯ ОБЛАСТЬ ПЛАСТОВСКИЙ РАЙОН С.  БОРИСОВСКИЙ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НАЦИОНАЛЬНОСТЬ                КАЗАШКА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ГРАЖДАНСТВО                     РОССИЙСКО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АДРЕС ФАКТИЧЕСКОГО МЕСТА ПРОЖИВАНИЯ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 Г. ЛИСАКОВСК    6А-8-34</a:t>
            </a:r>
            <a:br>
              <a:rPr sz="2400"/>
            </a:br>
            <a:r>
              <a:rPr b="0" lang="ru-RU" sz="2400" spc="-1" strike="noStrike">
                <a:solidFill>
                  <a:srgbClr val="3668c4"/>
                </a:solidFill>
                <a:latin typeface="Century Schoolbook"/>
              </a:rPr>
              <a:t>ТЕЛЕФОН (ДОМ) 3-71-64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85840" y="142920"/>
          <a:ext cx="8429400" cy="6432480"/>
        </p:xfrm>
        <a:graphic>
          <a:graphicData uri="http://schemas.openxmlformats.org/drawingml/2006/table">
            <a:tbl>
              <a:tblPr/>
              <a:tblGrid>
                <a:gridCol w="4214880"/>
                <a:gridCol w="4214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за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Магнитогор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огорское педагогическ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за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Костан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анайский социально- технический универс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и академика З. Алдамж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оконч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 июня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(серия, номе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Б  №  0237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сть по дипло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сть по дипл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 педагогики и методики начально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 (номер приказ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атегория  приказ №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(да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арта 201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следующей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арта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ст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стаж (подроб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августа 199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аботы в наше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57160" y="999720"/>
            <a:ext cx="7715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АМООБРАЗОВАНИЕ</a:t>
            </a:r>
            <a:br>
              <a:rPr sz="27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КЛАССЫ, В КОТОРЫХ РАБОТАЕТ УЧИТЕЛЬ И КЛАССНЫМ РУКОВОДИТЕЛЕМ КАКОГО КЛАССА ЯВЛЯЕТСЯ</a:t>
            </a: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14200" y="1428840"/>
          <a:ext cx="8215560" cy="4075200"/>
        </p:xfrm>
        <a:graphic>
          <a:graphicData uri="http://schemas.openxmlformats.org/drawingml/2006/table">
            <a:tbl>
              <a:tblPr/>
              <a:tblGrid>
                <a:gridCol w="2054160"/>
                <a:gridCol w="2052720"/>
                <a:gridCol w="2054160"/>
                <a:gridCol w="205452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ное руко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–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е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67579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ЕМА ПО САМООБРАЗОВАНИЮ: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СОВРЕМЕННЫЕ ПОДХОДЫ К АКТИВИЗАЦИИ ПОЗНАВАТЕЛЬНОЙ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ТЕХНОЛОГИЧЕСКИЕ АСПЕКТЫ  ТЕХНОЛОГИИ «БИС»  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ПО Ф. ВАССЕРМАНУ.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ЛИЧНЫЙ КАРЬЕРНЫЙ РОСТ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0040" y="2000160"/>
          <a:ext cx="8215200" cy="46418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зовое образование, курсы повы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лификации, повышение категори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воения звания и т.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удито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ия доку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–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ое об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ы повышения квалификац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о-педагогическ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овождение процесса обучения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е 12 – летней шк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ч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58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ое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чное об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37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008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ЛИЧНОЕ ПЕДАГОГИЧЕСКОЕ КРЕДО</a:t>
            </a:r>
            <a:br>
              <a:rPr sz="1600"/>
            </a:b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МОЯ ЦЕЛЬ: СТРЕМИТЕЛЬНО ВПЕРЁД ИДТИ, НЕ ОСТАВАТЬСЯ ПОЗАДИ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14200" y="642960"/>
          <a:ext cx="7786800" cy="5867280"/>
        </p:xfrm>
        <a:graphic>
          <a:graphicData uri="http://schemas.openxmlformats.org/drawingml/2006/table">
            <a:tbl>
              <a:tblPr/>
              <a:tblGrid>
                <a:gridCol w="1000080"/>
                <a:gridCol w="4191120"/>
                <a:gridCol w="25956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личные педагогические цен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 к детям, доброжелательность, доверие, уважени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6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е цели и задачи на учебный 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ть свой педагогический уровень, активизировать работу со слабоуспевающими, пополнить свою методическую копилку, участвовать в методической работе  школ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8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е цели и задачи на учебны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ить планирование по предметам на 2009 . Разработать папки-накопители по темам (1 класс), провести все  запланированные мероприятия по внеклассной работе. Изучить технологию Бис, использовать приемлемые аспекты на уроках в 1 класс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метод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: ролевая игра, деловая игра, самостоятельная работа, практическая работа и т. 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7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тех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о – диалоговую деятельность, дифференцированный подход в обучении, элементы проектной и информационной технологий,развивающее обучение, компьютерные технологии, аспекты технологии БИ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е результаты педагогиче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лню методическую копилку, составлю планирование по предметам, проведу все  запланированные мероприятия по внеклассной работ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75f6d"/>
                </a:solidFill>
                <a:latin typeface="Century Schoolbook"/>
              </a:rPr>
              <a:t>РАБОТА ПО ОБОБЩЕНИЮ И РАСПРОСТРАНЕНИЮ СОБСТВЕННОГО ОПЫТА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14280" y="1143000"/>
          <a:ext cx="6572520" cy="2436840"/>
        </p:xfrm>
        <a:graphic>
          <a:graphicData uri="http://schemas.openxmlformats.org/drawingml/2006/table">
            <a:tbl>
              <a:tblPr/>
              <a:tblGrid>
                <a:gridCol w="857520"/>
                <a:gridCol w="2490840"/>
                <a:gridCol w="1674720"/>
                <a:gridCol w="154944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2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экономики и финансовой грамот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нкурс инновац .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428920" y="4143240"/>
          <a:ext cx="4357800" cy="1928880"/>
        </p:xfrm>
        <a:graphic>
          <a:graphicData uri="http://schemas.openxmlformats.org/drawingml/2006/table">
            <a:tbl>
              <a:tblPr/>
              <a:tblGrid>
                <a:gridCol w="428760"/>
                <a:gridCol w="1071360"/>
                <a:gridCol w="928800"/>
                <a:gridCol w="928440"/>
                <a:gridCol w="10004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75f6d"/>
                </a:solidFill>
                <a:latin typeface="Century Schoolbook"/>
              </a:rPr>
              <a:t>ИСПОЛЬЗОВАНИЕ ИКТ В ПРОЦЕССЕ ОБУЧЕНИЯ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 (ГРАФИК ПРОВЕДЕНИЯ УРОКОВ)</a:t>
            </a:r>
            <a:br>
              <a:rPr sz="1400"/>
            </a:br>
            <a:r>
              <a:rPr b="1" i="1" lang="ru-RU" sz="1400" spc="-1" strike="noStrike">
                <a:solidFill>
                  <a:srgbClr val="575f6d"/>
                </a:solidFill>
                <a:latin typeface="Century Schoolbook"/>
              </a:rPr>
              <a:t>ИСПОЛЬЗОВАНИЕ СОВРЕМЕННЫХ ОБРАЗОВАТЕЛЬНЫХ ТЕХНОЛОГИЙ В ПРОЦЕССЕ ОБУЧЕНИЯ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2920" y="1214280"/>
          <a:ext cx="4114800" cy="516420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-обобщение по русскому язы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- 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60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по математик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даптация первоклассник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28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- путешествие по математике «Сложение и вычитание в пределах 10. Решение обратных задач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– русский язык «Имя прилагательно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2011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429080" y="1285920"/>
          <a:ext cx="4302000" cy="5072040"/>
        </p:xfrm>
        <a:graphic>
          <a:graphicData uri="http://schemas.openxmlformats.org/drawingml/2006/table">
            <a:tbl>
              <a:tblPr/>
              <a:tblGrid>
                <a:gridCol w="2151000"/>
                <a:gridCol w="215100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используем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, где использу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одходы к активизации познавательной деятельности. Технологические аспекты технологии БИС по Ф. Вассерман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одходы к активизации познавательной деятельности. Технологические аспекты технологии БИС по Ф. Вассерман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1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одходы к активизации познавательной деятельности. Технологические аспекты технологии БИС по Ф. Вассерман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31:18Z</dcterms:created>
  <dc:creator>User</dc:creator>
  <dc:description/>
  <dc:language>en-US</dc:language>
  <cp:lastModifiedBy>User</cp:lastModifiedBy>
  <dcterms:modified xsi:type="dcterms:W3CDTF">2011-10-21T20:20:07Z</dcterms:modified>
  <cp:revision>10</cp:revision>
  <dc:subject/>
  <dc:title>ГУ  СШ № 6 г. Лисаковска                    Портфолио   Буханова Алия Гайдаровна </dc:title>
</cp:coreProperties>
</file>